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6108-A0BA-4A7C-A420-AFEC9E2D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ehehehhe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779-2A4F-4794-83CE-427367C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2B1-E51E-4789-B605-92DF44B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7AB-E229-44F6-AE8E-B2F7902D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47A-596A-46AA-AD4D-2DAFEDBC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20B-EDED-41E8-A360-8524450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2D6-627F-4B95-A746-AA5CBA1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54A-A8B7-4C89-B251-AFC52E29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EB5-91E2-49AC-B9DF-91624B26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02A-B4CB-4251-BEED-802C80B2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128-0463-4E32-B4AA-E668882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6D8-814F-4EFD-96B1-56E2CC6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872-735A-4724-BEFE-515C77F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Joker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Joker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Joker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32E1-59B6-4E8A-BF3E-ED4C503B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Jokerman"/>
              </a:rPr>
              <a:t>Sugar Rush</a:t>
            </a:r>
            <a:endParaRPr b="0" lang="en-US" sz="88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Erin Anderso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out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8:15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3:1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Mac- 9:12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28:53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4:01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Mac- 11:3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e Body- The affect of sugar on the body was the opposite of what I thought it would be.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e Mind- I was right it did take longer to figure out the Sudoko.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Problem 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at effect does sugar have on your body and mind?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I know that sugar’s bad for you but I always wondered how it really effects you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Background Info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Pop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has lots of sugar glucose is a form of sugar. Glucose fuels the brain cell, but too much sugar can deprive the brain of glucose depleting the brains energy.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Hypothesi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I think that it will have a negative effect on both your brain and body.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Material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Mountain Dew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lothes pi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udoku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pple juice 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Procedur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y drink water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 people will hold open the clothes pen with their thumb and index finger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I time them while doing it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n I give them 2 cups of Mt. Dew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Then repeat step 2 and 3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Compare results</a:t>
            </a: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Varible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Controlled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ame tests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Independent-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Sugar, no sugar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okerman"/>
              </a:rPr>
              <a:t>Dependent- 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long they held the clothes pin</a:t>
            </a:r>
            <a:endParaRPr b="0" lang="en-US" sz="32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Joker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arah- 40:59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40:59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41:10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Without Sugar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arah- 14:00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Hannah- 5:32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Dezzy- 12:27</a:t>
            </a: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52:03Z</dcterms:created>
  <dc:creator>USD376</dc:creator>
  <dc:description/>
  <dc:language>en-US</dc:language>
  <cp:lastModifiedBy>USD376</cp:lastModifiedBy>
  <dcterms:modified xsi:type="dcterms:W3CDTF">2012-03-08T16:51:22Z</dcterms:modified>
  <cp:revision>10</cp:revision>
  <dc:subject/>
  <dc:title>Sugar Rush</dc:title>
</cp:coreProperties>
</file>